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5FF-9967-4196-853E-D2C9D52D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40E-1B58-468C-A2D2-F53DDB7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94E-3E8A-4EAD-9887-A9334E1F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7AD-6274-4BBD-9965-2BB13B13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FA8A-BEDB-4982-96A8-D41E1C6D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9848-9ACE-4C15-B072-6EE68ED5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D8D4-0122-438F-B75E-6D9250F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2807-AA0A-4833-91C9-5CD481E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EAF3-9C93-4E92-A635-216F627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DC75-1DF9-4583-B6DC-4094CA7C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B9AB-CA14-44F8-8155-438BC1DC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245-8D8E-4851-85FA-C8C177C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B00C-78F2-4481-BC1F-3162E98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577C-34E2-4BAB-8336-5649460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DD8-AA9A-40D6-AE01-8DA8EF9B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A968-6461-4770-A50F-300F7204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FC93-51FF-46D9-BF64-7A2376C6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A3D-3BC4-4764-81E2-71E8A181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F8B-9658-48FE-BE06-6EE98E8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B83-CC6D-40DF-90FE-DA2FBCE7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A81-AC6D-4951-9B12-3137DD2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905-E2F4-4D8E-B77F-D996784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7F7-CCED-494D-AB86-A06E520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19B-59E6-4003-823C-BB382DB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0A5C-DCB7-4A57-AC18-E76C783B817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FC8-1049-4BC5-A5DF-5A25E5AB3FE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Monosaccharide#Gemeinsame_Eigenschaften" TargetMode="External"/><Relationship Id="rId2" Type="http://schemas.openxmlformats.org/officeDocument/2006/relationships/hyperlink" Target="http://www.bs-wiki.de/mediawiki/index.php/Monosaccharide#Unterschiedliche_Eigenschaften" TargetMode="External"/><Relationship Id="rId3" Type="http://schemas.openxmlformats.org/officeDocument/2006/relationships/hyperlink" Target="http://www.bs-wiki.de/mediawiki/index.php/Monosaccharide#Struktur" TargetMode="External"/><Relationship Id="rId4" Type="http://schemas.openxmlformats.org/officeDocument/2006/relationships/hyperlink" Target="http://www.bs-wiki.de/mediawiki/index.php/Monosaccharide#Aldosen_und_Ketosen" TargetMode="External"/><Relationship Id="rId5" Type="http://schemas.openxmlformats.org/officeDocument/2006/relationships/hyperlink" Target="http://www.bs-wiki.de/mediawiki/index.php/Monosaccharide#Aldosen_und_Ketosen" TargetMode="External"/><Relationship Id="rId6" Type="http://schemas.openxmlformats.org/officeDocument/2006/relationships/hyperlink" Target="http://www.bs-wiki.de/mediawiki/index.php/Monosaccharide#Aldosen_und_Ketosen" TargetMode="External"/><Relationship Id="rId7" Type="http://schemas.openxmlformats.org/officeDocument/2006/relationships/hyperlink" Target="http://www.bs-wiki.de/mediawiki/index.php/Monosaccharide#Aldosen_und_Ketosen" TargetMode="External"/><Relationship Id="rId8" Type="http://schemas.openxmlformats.org/officeDocument/2006/relationships/hyperlink" Target="http://www.bs-wiki.de/mediawiki/index.php/Monosaccharide#Halbacetalbildung" TargetMode="External"/><Relationship Id="rId9" Type="http://schemas.openxmlformats.org/officeDocument/2006/relationships/hyperlink" Target="http://www.bs-wiki.de/mediawiki/index.php/Monosaccharide#.CE.B1-_und_.CE.B2-Form" TargetMode="External"/><Relationship Id="rId10" Type="http://schemas.openxmlformats.org/officeDocument/2006/relationships/hyperlink" Target="http://www.bs-wiki.de/mediawiki/index.php/Monosaccharide#asymmetrisches_C-Atom" TargetMode="External"/><Relationship Id="rId11" Type="http://schemas.openxmlformats.org/officeDocument/2006/relationships/hyperlink" Target="http://www.bs-wiki.de/mediawiki/index.php/Monosaccharide#Zuordnung_zur_D-_und_L-Reihe" TargetMode="Externa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Monosacchar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 Janina und K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21160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- und β-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i der Halbacetalbildung ist ein asymmetrischen C-Atom entstand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Stellung der OH-Gruppe kennzeichnet die Zuordnung zur α- oder β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124000" y="4365720"/>
            <a:ext cx="4767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ymmetrisches C-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halten in allen MS mit Ausnahme vom  Dihydroxyac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besitzt vier versch. Valenzen mit vier versch. Funktionelle Gruppen oder At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1467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ordnung zur D- und L-Rei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kann in zwei stereoisomeren Formen vorlie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-Reihe = Hydroxylgruppe rec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-Reihe = Hydroxylgruppe l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141640" cy="2492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435400" cy="2492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348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sche Aktivitä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können die Schwingungsebene polarisierten Lichts nach rechts und nach links dre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werden auch optische Antipoden genan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uta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änderung des Drehwinkels des Lichtes durch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nd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zu 37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nd zu 63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dreht das Licht um 112° und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m 19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63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9°+37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12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=53,41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hysiologischer We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zen im Kör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 des Glucosespieg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äh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2720" y="119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73200" y="2060640"/>
            <a:ext cx="3687840" cy="4281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yn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üßen von L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chn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 von Monosacchar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1 Gemeinsam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2 Unterschiedlich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2.1 Struktur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2.2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Aldosen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 und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Ketos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2.3 Halbacetalbildu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2.3.1 α- und β-Form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2.4 asymmetrisches C-At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2.4.1 Zuordnung zur D- und L-Reih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2 Optische Aktivitä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3 Muta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3 Physiologischer We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 Nutz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1 prakt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2 techn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och Fragen 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463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ISBN 3-507-10630-2, S. 360/361, 365, 369, 380/38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undfragen der Ernährung, Handwerk und Technik, ISBN 3-582-04475-0, S. 23-2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S sind Einfachzu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steine der Saccha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wichtigsten MS für die Ernährung heißen Glucose, Fructose, Mannose &amp; Galakt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kommen: versch. Obstsorten &amp; Hon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ntstehen aus mehrwertigen Alkoho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3429000"/>
            <a:ext cx="1368360" cy="2600280"/>
            <a:chOff x="826920" y="3429000"/>
            <a:chExt cx="1368360" cy="2600280"/>
          </a:xfrm>
        </p:grpSpPr>
        <p:sp>
          <p:nvSpPr>
            <p:cNvPr id="221" name=""/>
            <p:cNvSpPr/>
            <p:nvPr/>
          </p:nvSpPr>
          <p:spPr>
            <a:xfrm>
              <a:off x="1260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7280" y="3932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4508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920" y="508464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5661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03280" y="371628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3280" y="429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3280" y="4868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3280" y="544500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67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933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- C - 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872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3716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869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27640" y="3357720"/>
            <a:ext cx="1368720" cy="2673000"/>
            <a:chOff x="6227640" y="3357720"/>
            <a:chExt cx="1368720" cy="2673000"/>
          </a:xfrm>
        </p:grpSpPr>
        <p:sp>
          <p:nvSpPr>
            <p:cNvPr id="240" name=""/>
            <p:cNvSpPr/>
            <p:nvPr/>
          </p:nvSpPr>
          <p:spPr>
            <a:xfrm>
              <a:off x="665964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00720" y="39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- C - O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7640" y="508644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1080" y="56624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04000" y="371772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000" y="429408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48704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4000" y="544680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2411280" y="4653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653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964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602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036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hydroxyac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 können in Ring- oder Kettenform dargestell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763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ldosen und Keto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s können Aldosen, Ketosen und mehrere Hydroxylgruppen ent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primären Hydroxylgruppe zur Aldehyd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Al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sekundären Hydroxylgruppe zur Keto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Ket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dose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et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76360" y="5516640"/>
            <a:ext cx="635040" cy="1027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84720" y="5589720"/>
            <a:ext cx="7412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bacetalbil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H-Atom der Hydroxylgruppe wandert zur funktionellen Grup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ch das O-Atom der Hydroxylgruppe entsteht eine Sauerstoffbrüc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1838160" cy="563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6408720" cy="6394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35280" y="321300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35640" y="3357360"/>
            <a:ext cx="1152360" cy="215640"/>
            <a:chOff x="3635640" y="3357360"/>
            <a:chExt cx="1152360" cy="215640"/>
          </a:xfrm>
        </p:grpSpPr>
        <p:sp>
          <p:nvSpPr>
            <p:cNvPr id="270" name=""/>
            <p:cNvSpPr/>
            <p:nvPr/>
          </p:nvSpPr>
          <p:spPr>
            <a:xfrm flipH="1">
              <a:off x="3635640" y="3357360"/>
              <a:ext cx="11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635640" y="3357360"/>
              <a:ext cx="360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0:15:09Z</dcterms:created>
  <dc:creator>Janina</dc:creator>
  <dc:description/>
  <dc:language>en-US</dc:language>
  <cp:lastModifiedBy>Janina</cp:lastModifiedBy>
  <dcterms:modified xsi:type="dcterms:W3CDTF">2006-12-07T15:10:20Z</dcterms:modified>
  <cp:revision>13</cp:revision>
  <dc:subject/>
  <dc:title>Monosaccharide</dc:title>
</cp:coreProperties>
</file>